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365760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388880" y="914400"/>
            <a:ext cx="4545000" cy="34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26"/>
          </p:nvPr>
        </p:nvSpPr>
        <p:spPr>
          <a:xfrm>
            <a:off x="488520" y="873576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27"/>
          </p:nvPr>
        </p:nvSpPr>
        <p:spPr>
          <a:xfrm>
            <a:off x="4114800" y="8735760"/>
            <a:ext cx="27115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75E2F4C0-3405-454E-B3FC-3D9CD732C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88880" y="8736120"/>
            <a:ext cx="4921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e capítulo describirá los pasos que debe efectuar un técnico de muestreo de polvo con plomo de principio a fin cuando se lleva a cabo un examen. Este capítulo incluye cinco actividades para ayudar a practicar la implementación de los protoco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 este capítulo, los alumnos podrán demostrar que puede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coger una ubicación de muestreo apropi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mar muestras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r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62280"/>
            <a:ext cx="5365440" cy="298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 2: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hora que se han determinado las ubicaciones de muestreo, se tomarán muestras en una variedad de superficies – antepechos y canales de ventanas, y pis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488880" y="8736120"/>
            <a:ext cx="4616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84200" y="914400"/>
            <a:ext cx="4543560" cy="34084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90360" y="4572000"/>
            <a:ext cx="536580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s y redacción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analizar los datos, siga las guías proporcionadas en el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ítulo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e los estándares de aprobación de polvo con plomo de la EPA y del HUD al evaluar los resultados de las muestr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dacción del repor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formación del Capítul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(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dacción de un repor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o guía para traducir los resultado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un reporte fácil de enten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90C6F15F-2B75-4738-BEB7-87DD4CA3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D772EFBC-994A-4F4A-A859-0005E19B7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5CF44496-622F-4320-87FC-C01E08064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8BDC8D8-AEE9-4BCE-80C2-A3B92E490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8C2693E-3BD3-4DE8-8004-9C3218002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D4E0F4A9-CD29-430C-BDB8-E143018C8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30AC293A-B885-4080-B851-D29562646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44D6F3F7-8FA6-4565-91BF-B7383F60D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2A75931D-B1E2-41AA-9294-536297818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8FC855C5-9526-46FF-98AA-B1A299A17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329E8B55-6697-4356-9DEF-F07BD8E5A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61B916DE-647F-4832-9A4D-724628699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Capítulo 6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Reunión de destrezas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181160" y="2552760"/>
            <a:ext cx="67816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819000" y="1790640"/>
            <a:ext cx="75060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que las destrezas enseñadas en la clas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oger ubicaciones de muestreo apropiadas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r muestras de polvo con plomo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r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 </a:t>
            </a: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1: Dónde tomar muestra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6002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609480" y="1638360"/>
            <a:ext cx="784872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a practicar las estrategias del área de muest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instructor le proporcionará una situación y un diagrama de renovación hipotét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 la situación y marque las ubicaciones de dónde cree que se deben tomar muestras de polvo usando un pañ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cuerde...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una estrategia para establecer el área de muestreo para incluir las áreas donde se produjeron las máximas tareas de generación de polvo durante el trabaj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e l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Guía de ca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el Capítulo 3 para determinar los lugares apropiados para tomar sus muestr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2: Muestreo de polvo usando un paño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71320" y="1905120"/>
            <a:ext cx="80010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hora vamos a practicar nuevamente cómo tomar muestras de polvo usando un pañ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a individuo debe demostrar pericia en esta tare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a las instrucciones de su instructor para tomar muestr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3: Interpretación de los resultados.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28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ce los resultado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instructor le proporcionará los resultados del laboratorio para su interpretación.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los estándares de aprobación de polvo con plomo de la EPA como guí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sos: &lt; 1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pecho interior de ventana: &lt; 10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 de ventana: &lt; 40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</a:t>
            </a: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dad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4: Tra</a:t>
            </a: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ducción de los resultados en un reporte escrito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457200" y="1447920"/>
            <a:ext cx="838188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zca los resultados analizados en un reporte escri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riba un reporte que pueda entender fácilmente el cliente haciendo uso del resultado de la actividad anteri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pret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ción de los resultad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roduc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o 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tul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5 (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dacción del repor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o guí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Brisse, Claire</cp:lastModifiedBy>
  <cp:lastPrinted>2000-06-30T16:23:00Z</cp:lastPrinted>
  <dcterms:modified xsi:type="dcterms:W3CDTF">2021-02-25T03:38:36Z</dcterms:modified>
  <cp:revision>266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reator">
    <vt:lpwstr/>
  </property>
  <property fmtid="{D5CDD505-2E9C-101B-9397-08002B2CF9AE}" pid="4" name="Document Creation Date">
    <vt:lpwstr>2021-02-24T22:37:21Z</vt:lpwstr>
  </property>
  <property fmtid="{D5CDD505-2E9C-101B-9397-08002B2CF9AE}" pid="5" name="Document Type">
    <vt:lpwstr/>
  </property>
  <property fmtid="{D5CDD505-2E9C-101B-9397-08002B2CF9AE}" pid="6" name="EPA Contributor">
    <vt:lpwstr/>
  </property>
  <property fmtid="{D5CDD505-2E9C-101B-9397-08002B2CF9AE}" pid="7" name="EPA Office">
    <vt:lpwstr/>
  </property>
  <property fmtid="{D5CDD505-2E9C-101B-9397-08002B2CF9AE}" pid="8" name="EPA Related Documents">
    <vt:lpwstr/>
  </property>
  <property fmtid="{D5CDD505-2E9C-101B-9397-08002B2CF9AE}" pid="9" name="EPA Subject">
    <vt:lpwstr/>
  </property>
  <property fmtid="{D5CDD505-2E9C-101B-9397-08002B2CF9AE}" pid="10" name="External Contributor">
    <vt:lpwstr/>
  </property>
  <property fmtid="{D5CDD505-2E9C-101B-9397-08002B2CF9AE}" pid="11" name="Identifier">
    <vt:lpwstr/>
  </property>
  <property fmtid="{D5CDD505-2E9C-101B-9397-08002B2CF9AE}" pid="12" name="Language">
    <vt:lpwstr>English</vt:lpwstr>
  </property>
  <property fmtid="{D5CDD505-2E9C-101B-9397-08002B2CF9AE}" pid="13" name="Record">
    <vt:lpwstr>Shared</vt:lpwstr>
  </property>
  <property fmtid="{D5CDD505-2E9C-101B-9397-08002B2CF9AE}" pid="14" name="Rights">
    <vt:lpwstr/>
  </property>
  <property fmtid="{D5CDD505-2E9C-101B-9397-08002B2CF9AE}" pid="15" name="TaxCatchAll">
    <vt:lpwstr/>
  </property>
  <property fmtid="{D5CDD505-2E9C-101B-9397-08002B2CF9AE}" pid="16" name="TaxKeyword">
    <vt:lpwstr/>
  </property>
  <property fmtid="{D5CDD505-2E9C-101B-9397-08002B2CF9AE}" pid="17" name="TaxKeywordTaxHTField">
    <vt:lpwstr/>
  </property>
  <property fmtid="{D5CDD505-2E9C-101B-9397-08002B2CF9AE}" pid="18" name="_Coverage">
    <vt:lpwstr/>
  </property>
  <property fmtid="{D5CDD505-2E9C-101B-9397-08002B2CF9AE}" pid="19" name="_Source">
    <vt:lpwstr/>
  </property>
  <property fmtid="{D5CDD505-2E9C-101B-9397-08002B2CF9AE}" pid="20" name="_ip_UnifiedCompliancePolicyProperties">
    <vt:lpwstr/>
  </property>
  <property fmtid="{D5CDD505-2E9C-101B-9397-08002B2CF9AE}" pid="21" name="_ip_UnifiedCompliancePolicyUIAction">
    <vt:lpwstr/>
  </property>
  <property fmtid="{D5CDD505-2E9C-101B-9397-08002B2CF9AE}" pid="22" name="e3f09c3df709400db2417a7161762d62">
    <vt:lpwstr/>
  </property>
  <property fmtid="{D5CDD505-2E9C-101B-9397-08002B2CF9AE}" pid="23" name="j747ac98061d40f0aa7bd47e1db5675d">
    <vt:lpwstr/>
  </property>
</Properties>
</file>